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5CD68-CF89-45FB-84FB-6360418799AD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FEE2D-C294-45C0-BF7D-F05B83D9AD6D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44480"/>
            <a:ext cx="5029200" cy="38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81B42-F228-4268-B091-E95386781E17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4480"/>
            <a:ext cx="5029200" cy="38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68B1-460D-4CE9-A13A-40B956F77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9850-BA49-42F1-A229-B3039BEEC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5BD9-8D9D-4BAD-9E40-72D941425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84D7-3FAE-4556-8F42-366BE7042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F457-3355-4087-9376-FC3F98795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8561-5B43-45CA-AD2E-595428223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E3F9-92CE-490B-BE98-BE8FA9661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1D85-1543-4C28-AE62-87F20123B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B284-894F-40F9-9773-2C2D385F2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1D2F-0F5D-494D-A9FF-4AC187E44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82BD-D245-4F7B-BC9A-C6A6BB9A3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E49B-BF00-4C53-BD16-1C5D19D3E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7F3CE-9D04-4E24-B03C-04814BDE53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000000"/>
                </a:solidFill>
                <a:latin typeface="Times New Roman"/>
              </a:rPr>
              <a:t>UMTS - Security</a:t>
            </a:r>
            <a:br>
              <a:rPr sz="4800"/>
            </a:br>
            <a:r>
              <a:rPr b="0" lang="de-DE" sz="4800" spc="-1" strike="noStrike">
                <a:solidFill>
                  <a:srgbClr val="000000"/>
                </a:solidFill>
                <a:latin typeface="Times New Roman"/>
              </a:rPr>
              <a:t>Stand der Standardisieru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33523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Roland Schmit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-Nova Deutsche Telekom Innovationsgesellscha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echnologiezentrum Darmsta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Stefan Püt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-Mob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Operationen auf der USI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533520" y="1219320"/>
          <a:ext cx="6858000" cy="489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219320"/>
                    <a:ext cx="6858000" cy="48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010280" y="519588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3333cc"/>
                </a:solidFill>
                <a:latin typeface="Times New Roman"/>
              </a:rPr>
              <a:t>HLR Authent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010280" y="57294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3333cc"/>
                </a:solidFill>
                <a:latin typeface="Times New Roman"/>
              </a:rPr>
              <a:t>Key Fresh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477120" y="5410080"/>
            <a:ext cx="457200" cy="0"/>
          </a:xfrm>
          <a:prstGeom prst="line">
            <a:avLst/>
          </a:prstGeom>
          <a:ln w="19080">
            <a:solidFill>
              <a:srgbClr val="3333cc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477120" y="5943600"/>
            <a:ext cx="457200" cy="0"/>
          </a:xfrm>
          <a:prstGeom prst="line">
            <a:avLst/>
          </a:prstGeom>
          <a:ln w="19080">
            <a:solidFill>
              <a:srgbClr val="3333cc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2G/3G Interworking Mechanism GSIM Roam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2522520" y="1523880"/>
          <a:ext cx="387828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22520" y="1523880"/>
                    <a:ext cx="387828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28600" y="1523880"/>
            <a:ext cx="1752480" cy="1015920"/>
          </a:xfrm>
          <a:prstGeom prst="rect">
            <a:avLst/>
          </a:prstGeom>
          <a:solidFill>
            <a:srgbClr val="c0c0c0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ff"/>
                </a:solidFill>
                <a:latin typeface="Arial"/>
              </a:rPr>
              <a:t>2G G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99"/>
                </a:solidFill>
                <a:latin typeface="Arial"/>
              </a:rPr>
              <a:t>3G UM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2G/3G Interworking Mechanism USIM Roam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2776680" y="1523880"/>
          <a:ext cx="377640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6680" y="1523880"/>
                    <a:ext cx="377640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304920" y="1523880"/>
            <a:ext cx="1752480" cy="1015920"/>
          </a:xfrm>
          <a:prstGeom prst="rect">
            <a:avLst/>
          </a:prstGeom>
          <a:solidFill>
            <a:srgbClr val="c0c0c0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ff"/>
                </a:solidFill>
                <a:latin typeface="Arial"/>
              </a:rPr>
              <a:t>2G G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99"/>
                </a:solidFill>
                <a:latin typeface="Arial"/>
              </a:rPr>
              <a:t>3G UM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KASUMI: Der UMTS Cipher- and Integrity Algorithm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KASUMI = Jap.: Nebel (Blockchiffr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Verschlüsselungsalgo. f8: KASUMI in OFB M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asiert auf der Blockchiffre MISTY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Designer: M. Matsui, Mitsubish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ntwickelt von ETSI SAGE (07/99-10/99)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SAGE: Security Algorithm Group of Exper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valuation durch drei Teams (11/99-12/99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art Preneel/Lars Knudsen (Leuven/Berg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Jacques Stern (ENS Pari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red Piper (Royal Holloway London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ublikation erwartet unter www.etsi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Ausblick: 3G Security Work Items 2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P based core network signalling sec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obile execution environment (MexE) sec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Visibility and configur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M application securit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raud information gathering system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ocation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VHE sec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Literaturhinwei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Walker M.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de-DE" sz="2400" spc="-1" strike="noStrike">
                <a:solidFill>
                  <a:srgbClr val="000000"/>
                </a:solidFill>
                <a:latin typeface="Times New Roman"/>
              </a:rPr>
              <a:t>Security of 3G Systems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,  Proc. EUROCRYPT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ütz S.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ecurity for the Third-Generation Mobile Radio System</a:t>
            </a:r>
            <a:br>
              <a:rPr sz="2400"/>
            </a:b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UMT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British Telecom. Engineering Journal, Aug 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ütz S., Schmitz R.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ecure Transport of Authentication Data in Third-</a:t>
            </a:r>
            <a:br>
              <a:rPr sz="2400"/>
            </a:b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Generation Mobile Networks,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c. CQRE 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ütz S., Schmitz R.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ecure Interoperation of 2G and 3G Mobile Networks,</a:t>
            </a:r>
            <a:br>
              <a:rPr sz="2400"/>
            </a:b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c. 3G2000/Mobile Communication Technolo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Überblic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3G Security - Standardisierungsgremi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Übersicht UMTS-Sicherhe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rinzipi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Verbesserungen gegenüber G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UMTS Authentikationsprotokol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(Authentication and Key Agreement Protoco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2G/3G Interwor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UMTS Verschlüsselungsalgorithmus KASU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Ausbli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Beteiligte Gremi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3GPP (3rd Geneneration Partnership Projec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tandardisierung aufbauend auf GSM Spezifikatio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eteiligte Organisatio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TSI (Europa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RIB, TTC (Jap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TA (Kore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1 (U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CWTS (Chin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3GPP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tandardisierung basierend auf ANSI/TIA-4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3GPP Security Working Grou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763120" cy="455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46320" indent="-2595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Gegründet Februar 199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6320" indent="-2595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. Walker, Vodafone (chair)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. Pütz, T-Mobil; M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covici,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ucent (vice chair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6320" indent="-2595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Vertretene Partei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8588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ersteller: Alcatel, Ericsson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mplus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Lucent, Mitsubishi, Motorola, Nokia , Panasonic, Siem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588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etreiber: BT, FT, ICO, MMO, NTT DoCoMo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komtel, Philips,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lenor, Telia, T-Mobil, V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588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ehörden: BMWi, DTI, Reg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6320" indent="-2595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asis-Dokument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8588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3GPP TS 33.102 UMTS Security 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Sicherheitsprinzipien von UM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8018280" cy="45514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3G Security basiert auf 2G Sicherheitsarchitekt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ewährte 2G Sicherheitselemente wie die SIM-Karte als Sicherheitsmodul werden übernommen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3G Security verbessert die Sicherheit von 2G Syste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ekannte Schwächen von 2G Systemen werden korrigiert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3G Security wird neue Sicherheitsdienste ermöglic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33240" y="533520"/>
            <a:ext cx="801864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Erkannte Schwächen der 2G Secur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8015040" cy="45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675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ktive Attacken (“IMSI Catching”) basierend auf “False Base Station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675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Verschlüsselung endet in den Basisstation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675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chlüssel und Authentikationsdaten werden im Klartext innerhalb und zwischen Netzen übermittel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675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Kein Integritätsschutz auf der Luftschnittste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675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oretische Attacken auf den Verschlüsselungs-algorithmus A5/1 veröffentlic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Verbesserungen durch 3G Secur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Authentikation des HLRs gegenüber der USI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Integritätsschutz auf der Luftschnittste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Nachweis frischer Schlüssel (Key freshnes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Neue Algorith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128 Bit Schlüssellängen (K, CK, I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Core network signalling sec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Verschlüsselung endet im RN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Optionaler Dien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etwork-wide user traffic confidenti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3GPP Authentication and Key Agreement (AKA)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1219320" y="1600200"/>
          <a:ext cx="6705360" cy="490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600200"/>
                    <a:ext cx="6705360" cy="490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Erzeugen des UMTS Authentikationsvektors im AU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1266840" y="1498680"/>
          <a:ext cx="6353280" cy="477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6840" y="1498680"/>
                    <a:ext cx="6353280" cy="477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3T11:20:17Z</dcterms:created>
  <dc:creator>schmitz</dc:creator>
  <dc:description/>
  <dc:language>en-US</dc:language>
  <cp:lastModifiedBy>Superuser</cp:lastModifiedBy>
  <cp:lastPrinted>2000-03-26T20:41:21Z</cp:lastPrinted>
  <dcterms:modified xsi:type="dcterms:W3CDTF">2002-04-20T19:07:24Z</dcterms:modified>
  <cp:revision>25</cp:revision>
  <dc:subject/>
  <dc:title>Secure Interoperation  of 2G and 3G Networks</dc:title>
</cp:coreProperties>
</file>